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3B1-603E-4D5C-BEBD-3F4C259E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9D9-94CD-403A-BCF0-BD0E16DC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13C-9E9E-4DD8-B5FB-BF4EA0B4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373-4106-4A0C-A3F7-EC23EE6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A25A-C860-4082-BDEC-FAE16ED7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A19-1DDD-4625-8947-11CDDD2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4E6-9D1D-4712-8FC1-BA0D8BB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113-35C9-4B88-A91C-A88E4931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76E-F22D-41CC-A108-B972303A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E5A-6906-41B5-BF3A-F12E0F2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73C-2416-4B55-848A-277FD437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E3A-DE63-4ADB-B674-9BC690C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F57C-7478-42FA-9174-5D77EAE9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6002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582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582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143000" y="59436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6002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1430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6858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2286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010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-15228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286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6858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505320"/>
            <a:ext cx="1828800" cy="1218960"/>
          </a:xfrm>
          <a:prstGeom prst="parallelogram">
            <a:avLst>
              <a:gd name="adj" fmla="val 3750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15400" y="10666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915400" y="472428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2286000"/>
            <a:ext cx="1828800" cy="1219320"/>
          </a:xfrm>
          <a:prstGeom prst="parallelogram">
            <a:avLst>
              <a:gd name="adj" fmla="val 37496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14240" y="3114720"/>
            <a:ext cx="914040" cy="781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5105520"/>
            <a:ext cx="205740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ss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105520"/>
            <a:ext cx="281952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se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ing tessel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1540000">
            <a:off x="231480" y="555840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540000">
            <a:off x="16030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1540000">
            <a:off x="29746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1540000">
            <a:off x="43462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1540000">
            <a:off x="57178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21540000">
            <a:off x="70894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1540000">
            <a:off x="8461080" y="555984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540000">
            <a:off x="-682560" y="433584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1540000">
            <a:off x="6886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540000">
            <a:off x="20602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1540000">
            <a:off x="34318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540000">
            <a:off x="48034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1540000">
            <a:off x="61750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540000">
            <a:off x="7546680" y="43376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1540000">
            <a:off x="-225360" y="311688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540000">
            <a:off x="11458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1540000">
            <a:off x="38890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1540000">
            <a:off x="52606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1540000">
            <a:off x="66322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1540000">
            <a:off x="8003880" y="3118320"/>
            <a:ext cx="914040" cy="78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1540000">
            <a:off x="231480" y="189756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1540000">
            <a:off x="16030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1540000">
            <a:off x="29746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1540000">
            <a:off x="43462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1540000">
            <a:off x="57178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1540000">
            <a:off x="70894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1540000">
            <a:off x="8461080" y="189936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540000">
            <a:off x="688680" y="678240"/>
            <a:ext cx="91404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53" y="567"/>
                </a:moveTo>
                <a:arcTo wR="10800" hR="10800" stAng="-4281098" swAng="4281098"/>
                <a:lnTo>
                  <a:pt x="10800" y="10800"/>
                </a:lnTo>
                <a:close/>
              </a:path>
              <a:path fill="none" w="21600" h="21600">
                <a:moveTo>
                  <a:pt x="14253" y="567"/>
                </a:moveTo>
                <a:arcTo wR="10800" hR="10800" stAng="-4281098" swAng="4281098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540000">
            <a:off x="20602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1540000">
            <a:off x="34318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1540000">
            <a:off x="48034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1540000">
            <a:off x="61750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540000">
            <a:off x="754668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1540000">
            <a:off x="-682560" y="680040"/>
            <a:ext cx="914040" cy="78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73" y="574"/>
                </a:moveTo>
                <a:arcTo wR="10800" hR="10800" stAng="-4274615" swAng="4274615"/>
                <a:lnTo>
                  <a:pt x="10800" y="10800"/>
                </a:lnTo>
                <a:close/>
              </a:path>
              <a:path fill="none" w="21600" h="21600">
                <a:moveTo>
                  <a:pt x="14273" y="574"/>
                </a:moveTo>
                <a:arcTo wR="10800" hR="10800" stAng="-4274615" swAng="4274615"/>
              </a:path>
            </a:pathLst>
          </a:cu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685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rcos’ Til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191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create a tile pattern with a single parallel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5105520"/>
            <a:ext cx="281952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move 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8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9">
                                  <p:stCondLst>
                                    <p:cond delay="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3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5 -2.22222E-006 E">
                                      <p:cBhvr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3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 -0.17778 E">
                                      <p:cBhvr>
                                        <p:cTn id="2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3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05 -0.17778 E">
                                      <p:cBhvr>
                                        <p:cTn id="3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3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 -0.17778 E">
                                      <p:cBhvr>
                                        <p:cTn id="4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3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5 -2.22222E-006 E">
                                      <p:cBhvr>
                                        <p:cTn id="5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 0.17778 E">
                                      <p:cBhvr>
                                        <p:cTn id="6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93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05 0.17778 E">
                                      <p:cBhvr>
                                        <p:cTn id="7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3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 0.17778 E">
                                      <p:cBhvr>
                                        <p:cTn id="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3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5 0.17778 E">
                                      <p:cBhvr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67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 -2.22222E-006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100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5 -0.17778 E">
                                      <p:cBhvr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 -0.35555 E">
                                      <p:cBhvr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9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5 -0.35555 E">
                                      <p:cBhvr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2299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 -0.35555 E">
                                      <p:cBhvr>
                                        <p:cTn id="135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37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05 -0.35555 E">
                                      <p:cBhvr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1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 -0.35555 E">
                                      <p:cBhvr>
                                        <p:cTn id="153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5 -0.17778 E">
                                      <p:cBhvr>
                                        <p:cTn id="162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79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 -2.22222E-006 E">
                                      <p:cBhvr>
                                        <p:cTn id="17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930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5 0.17778 E">
                                      <p:cBhvr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7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 0.35556 E">
                                      <p:cBhvr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21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25 0.35556 E">
                                      <p:cBhvr>
                                        <p:cTn id="198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35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 0.35556 E">
                                      <p:cBhvr>
                                        <p:cTn id="2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49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05 0.35556 E">
                                      <p:cBhvr>
                                        <p:cTn id="216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63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2 0.35556 E">
                                      <p:cBhvr>
                                        <p:cTn id="225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77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5 0.35556 E">
                                      <p:cBhvr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6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 0.17778 E">
                                      <p:cBhvr>
                                        <p:cTn id="243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95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5 -2.22222E-006 E">
                                      <p:cBhvr>
                                        <p:cTn id="252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4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 -0.17778 E">
                                      <p:cBhvr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13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5 -0.35555 E">
                                      <p:cBhvr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22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5 -0.35555 E">
                                      <p:cBhvr>
                                        <p:cTn id="279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31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 -0.17778 E">
                                      <p:cBhvr>
                                        <p:cTn id="288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4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5 -2.22222E-006 E">
                                      <p:cBhvr>
                                        <p:cTn id="297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49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5 0.17778 E">
                                      <p:cBhvr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800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45 0.53334 E">
                                      <p:cBhvr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67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3 0.53334 E">
                                      <p:cBhvr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76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15 0.53334 E">
                                      <p:cBhvr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5.55112E-017 0.53334 E">
                                      <p:cBhvr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94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15 0.53334 E">
                                      <p:cBhvr>
                                        <p:cTn id="351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3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3 0.53334 E">
                                      <p:cBhvr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120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45 0.53334 E">
                                      <p:cBhvr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21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 0.35556 E">
                                      <p:cBhvr>
                                        <p:cTn id="37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3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55 0.17778 E">
                                      <p:cBhvr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3900"/>
                            </p:stCondLst>
                            <p:childTnLst>
                              <p:par>
                                <p:cTn id="3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 -2.22222E-006 E">
                                      <p:cBhvr>
                                        <p:cTn id="39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48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5 -0.17778 E">
                                      <p:cBhvr>
                                        <p:cTn id="405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4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57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-0.5 -0.35555 E">
                                      <p:cBhvr>
                                        <p:cTn id="41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66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 0.53334 E">
                                      <p:cBhvr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75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22222E-006 L 0.65 0.35556 E">
                                      <p:cBhvr>
                                        <p:cTn id="432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4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84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1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7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3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9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1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1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1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1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91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410080" y="5105520"/>
            <a:ext cx="205740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ss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105520"/>
            <a:ext cx="2819520" cy="83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allel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41911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opposite angles of a parallelogram congru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6858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rcos’ Tile 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289240"/>
            <a:ext cx="1828800" cy="1218960"/>
          </a:xfrm>
          <a:prstGeom prst="parallelogram">
            <a:avLst>
              <a:gd name="adj" fmla="val 37507"/>
            </a:avLst>
          </a:prstGeom>
          <a:noFill/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11000" y="1729080"/>
            <a:ext cx="2289600" cy="2179440"/>
            <a:chOff x="2511000" y="1729080"/>
            <a:chExt cx="2289600" cy="2179440"/>
          </a:xfrm>
        </p:grpSpPr>
        <p:sp>
          <p:nvSpPr>
            <p:cNvPr id="182" name=""/>
            <p:cNvSpPr/>
            <p:nvPr/>
          </p:nvSpPr>
          <p:spPr>
            <a:xfrm>
              <a:off x="2971800" y="2288880"/>
              <a:ext cx="1828800" cy="1219320"/>
            </a:xfrm>
            <a:prstGeom prst="parallelogram">
              <a:avLst>
                <a:gd name="adj" fmla="val 37496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540000">
              <a:off x="2517480" y="3116520"/>
              <a:ext cx="914040" cy="78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53" y="567"/>
                  </a:moveTo>
                  <a:arcTo wR="10800" hR="10800" stAng="-4281098" swAng="4281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53" y="567"/>
                  </a:moveTo>
                  <a:arcTo wR="10800" hR="10800" stAng="-4281098" swAng="4281098"/>
                </a:path>
              </a:pathLst>
            </a:custGeom>
            <a:solidFill>
              <a:srgbClr val="ff0000"/>
            </a:soli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600000">
              <a:off x="2969280" y="1900440"/>
              <a:ext cx="91476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80" y="523"/>
                  </a:moveTo>
                  <a:arcTo wR="10800" hR="10800" stAng="-6474244" swAng="6474244"/>
                  <a:lnTo>
                    <a:pt x="10800" y="10800"/>
                  </a:lnTo>
                  <a:close/>
                </a:path>
                <a:path fill="none" w="21600" h="21600">
                  <a:moveTo>
                    <a:pt x="7480" y="523"/>
                  </a:moveTo>
                  <a:arcTo wR="10800" hR="10800" stAng="-6474244" swAng="6474244"/>
                </a:path>
              </a:pathLst>
            </a:custGeom>
            <a:solidFill>
              <a:srgbClr val="3333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5:57:17Z</dcterms:created>
  <dc:creator>wquincey</dc:creator>
  <dc:description/>
  <dc:language>en-US</dc:language>
  <cp:lastModifiedBy>wquincey</cp:lastModifiedBy>
  <dcterms:modified xsi:type="dcterms:W3CDTF">2006-03-31T02:41:11Z</dcterms:modified>
  <cp:revision>22</cp:revision>
  <dc:subject/>
  <dc:title>Slide 1</dc:title>
</cp:coreProperties>
</file>